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1E1-4DDA-470D-8C55-1B5D4BF1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A06-FAE6-40A2-BB7C-6CB70751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35A-45F8-4AC2-B580-5607AA01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146-5708-403D-AF4C-36131178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FF3-C4DE-4B30-96CD-271A7633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258-274C-49C4-BF17-C9003FCA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32F-FAE0-498F-BB25-FA3D4AC2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C50-6DDD-4AA4-A6F1-7B96CC17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EA2-65A5-4E88-A047-2065A16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C07-D581-4B50-8429-4C8C6548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984-9030-4061-83EB-90B5C18C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6C6-4D47-40E4-B17F-509B12BE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78D7-B090-471D-B59F-A9FB0E842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es en un caf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five things you can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three things you can dr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the names of three me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Presente de los verbos –ER, -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% de los verbos en español terminan en    -ER o 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conjugar los verbos que terminan en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ER o –I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Sacamos la terminación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-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–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omer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Vi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Remplazamos la terminación de la siguiente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Ell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**Los dos son iguales EXEPTO en NOSOTROS Y VOSOTROS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318040" y="397656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349720" y="443376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364120" y="50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794200" y="403848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756400" y="441972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793480" y="4876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7012800" y="40384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011720" y="443376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212200" y="3581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326280" y="358128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R </a:t>
            </a: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/ 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 TENER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(to ha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erbo TENER es un verbo irregular “-GO” porque en la primera persona TENER termina en “–g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erbo TENER tambien es irregular porque la RAIZ del verbo cam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se conjuga el verbo TE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3733920" y="2819520"/>
            <a:ext cx="914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3352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94160" y="28954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33526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632920" y="28954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ermin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5334120" y="32004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289960" y="4292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255400" y="481500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288880" y="54244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6557040" y="434340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598440" y="481500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Ten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632640" y="54244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verbos en el pres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EL VERBO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28600" y="3840120"/>
            <a:ext cx="8915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52280" y="152280"/>
            <a:ext cx="8915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34:38Z</dcterms:created>
  <dc:creator>Helen Zumaeta</dc:creator>
  <dc:description/>
  <dc:language>en-US</dc:language>
  <cp:lastModifiedBy>Helen Zumaeta</cp:lastModifiedBy>
  <cp:lastPrinted>2014-10-02T12:40:34Z</cp:lastPrinted>
  <dcterms:modified xsi:type="dcterms:W3CDTF">2014-10-03T19:48:11Z</dcterms:modified>
  <cp:revision>12</cp:revision>
  <dc:subject/>
  <dc:title>Me llamo _______ Clase 6nh/il La fecha es el 15 de marzo del 2011</dc:title>
</cp:coreProperties>
</file>